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C78-526A-4285-AC4A-9C34B9F7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BE7-0D05-489E-86B4-FF45518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2E9-1F09-4BC7-8062-172A48D1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7C5-67E4-4BF5-B6BB-0B65F633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0D8F-A33C-4865-93CA-2F730042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4A5-DA93-472A-94B2-9269589E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553-D624-4C94-8A05-87E1DF9F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82F-30FA-41CA-918A-63ED0B7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24F-3CEB-487E-B31D-BE9297C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B8C-E8F9-4764-BCE4-CA05AB9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3FA-6FD1-41E5-B099-3223B5A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CEC-864B-4DFC-8078-E631F55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E060-DE96-421E-97DA-AB6E5EB38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rpicassohead.com/create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828800"/>
            <a:ext cx="593892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casso and Cubis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Pablo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One of the most famous artists in the world, a co-founder of Cubism, best known for his paintings, particularly hi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lue Period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and his creative style of arranging facial features, he also produced ceramic and bronze sculptures, drawings, etchings, collage and poetry.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881-1973. Born in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No artist was as famous in his ow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idn’t appreciate women art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Known for </a:t>
            </a:r>
            <a:r>
              <a:rPr b="0" lang="en-US" sz="2800" spc="-1" strike="noStrike" u="sng">
                <a:solidFill>
                  <a:srgbClr val="bbe0e3"/>
                </a:solidFill>
                <a:uFillTx/>
                <a:latin typeface="Arial"/>
              </a:rPr>
              <a:t>Old Man with Guitar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bbe0e3"/>
                </a:solidFill>
                <a:uFillTx/>
                <a:latin typeface="Arial"/>
              </a:rPr>
              <a:t>Guer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49424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1952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iolin and Guitar”. Oil on Can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icasso’s “Blue Perio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28861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038480" cy="406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63244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Old Man and Gu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icasso’s Por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309840" cy="4243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614320" cy="364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24480" y="2895480"/>
            <a:ext cx="2563920" cy="373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943600" cy="2230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3124080"/>
            <a:ext cx="228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xamples of Analytic Cub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y Pic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r. Picasso Head!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rpicassohead.com/create.htm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1216080"/>
            <a:ext cx="73152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Create your own Picasso-Style  Portra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o to Mr. Picasso Head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sign a Picasso-style portrait using the tool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int off your creation. Remember to sign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edraw your creation onto an 8.5x11 piece of paper (portrait paper orien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lour in using pencil crayon in bold colours.  Colour in a back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se a black sharpie marker to outline important lines and features of the portr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44:11Z</dcterms:created>
  <dc:creator>Regina Catholic School Board</dc:creator>
  <dc:description/>
  <dc:language>en-US</dc:language>
  <cp:lastModifiedBy>Regina Catholic School Board</cp:lastModifiedBy>
  <dcterms:modified xsi:type="dcterms:W3CDTF">2008-11-12T15:13:25Z</dcterms:modified>
  <cp:revision>4</cp:revision>
  <dc:subject/>
  <dc:title>Slide 1</dc:title>
</cp:coreProperties>
</file>